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57C7-B81D-40DD-A6DD-9B0076A87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0A65-B6AD-451B-A5D6-71DE9641A9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3EB-1A68-467C-B527-C31D3CBE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D397-7966-4A7F-B13A-AF5AB7A9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A0612F-22F1-444B-8017-66CEDF13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D4D26F-B39C-4929-9277-E9C9AB0C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95EFE3-9619-4B8F-98A2-002B7DF3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655284-5F19-46D5-A51D-1CA09627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8572A9-6FD7-46E3-95F0-3039690B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7C2B6E-C31E-460C-ADC0-6A09558C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59FB54-AC7F-4CF8-9E69-3740EF1C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49C9E8-D7F6-4096-9327-50E0B9D7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CF997F-9F87-43AC-9A08-21F763AF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2614-5593-41C5-A5B2-DAB5446A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5820-BAF7-40AF-9289-948CD3B1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43D42-7E07-47E5-B0FC-50FA8311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0193F-97A0-4960-82D2-DF57A35F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54785-FF79-4BCD-951B-9A73B890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23D03-DD0C-45E6-9E78-E418C4F4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5C378-9733-453B-84D3-E5A617B9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A4560-2AB1-4377-A169-6B3244D7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72237-0EC3-4025-971E-0B7F76EA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12F7-22DD-4A1B-8D65-289A4C1A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2C1C8-BA3C-47DA-98DA-88D7B501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43E3F-942A-43F3-9BE1-FB018BC1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CCBBA-BEEF-41DE-BB31-1EB207B8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D3C2F-2F0D-493A-B044-E1A81129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61248-0D5E-485D-8A20-4FAA5E36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D64D3-A181-4E81-9429-79B46968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AD378-9D4B-4229-977C-4130FE55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FE45E-15B3-4251-9742-E1272F8F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472AF-BDFC-4AAF-A358-887C4947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E9946-F6FA-4ACD-9ED5-9B4BA018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E66F-A348-4EE5-82F3-647A54C7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93310-1A0C-4A96-88A9-D02CDCD7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DDE7E-00BE-4F9B-8159-5ADA5892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49604-243F-486F-911E-5703AEA4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C432A-4456-4619-8FC4-4B039FBE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B3775-26D7-43A8-A4DE-8D3D440E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E56B3-ABED-4BE1-B267-244C5FAC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33F32-C6ED-4F83-AE4F-B70B39DE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093370-194C-4EDD-9693-9215FC72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8F6AC5-079B-4EA2-8563-DA7FFD19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BEE2B8-923D-41A7-9690-C62838E6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A793-00C9-40B1-92E7-35C3F756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335550-C3BA-4EE8-8276-16461947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1AC586-CE75-4C94-A5FB-05CDB09D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5988C9-5546-4667-8DCF-817154EA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3E4168-2864-426C-8340-43343A74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FCEA89-2B32-4261-B99B-29FDEF73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7909C7-A000-4DE7-865C-C799E164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33DBA8-8A66-4382-8363-FFEDA409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C4CD46-BCDC-4501-90C5-9CA20CB8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CAFC3F-5BC8-4215-BA99-F942A71E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122BA-13CF-4810-849C-4A2AFBA0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1AB0-CA1E-433E-A8AE-F3881FF4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96395-0A7C-46D7-8C4C-C07E0AB9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E7972-2C14-4307-A16B-65B4254C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9840E-84C2-4C6C-B031-C71ED689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56783-8F03-4E05-9341-ACA61D25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0AFFC-DDEC-44DA-A6D0-3A56A3FE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1A9BD-4DD8-4AA7-A196-BAD1A554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61AEB-C6EC-41F1-A16F-6E8DB709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E8E9D-DAE0-4CF1-8F1E-64667FAE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70413-6632-4366-B9DB-27E18B12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30B9F-5F46-44D8-B863-02A764DC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6946-6586-4D73-B380-689DF496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C8E2E-A4EE-426B-B94B-429D125D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3E7A7-82C5-4F3D-A88C-B44C8B6D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DC98A-CCF1-4207-B16F-3E73FD32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943C3-CCA3-4372-A02D-35B7C26C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EA4E4-26C8-4F9A-9896-E70528CA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3D595-3BCD-4846-8802-03FEC125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A08EB-13AD-4233-AACD-94DFF68A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08B98-3229-4DC6-AB26-1C8641C4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02796-E6FE-4EB2-9C2D-2E008AB3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58977-5A37-42C1-931B-24C10890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F2C8-2A23-4C1E-9849-F0301596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8B82D-52BB-4B0B-81E4-F583A0D6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67899-E74F-4A83-B79F-0CC7FDF7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76B75-A0D9-42F8-9F38-A9A1353A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3A9A0-E7B7-4A75-A4EF-71B660C4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06F21-9EEB-4D80-B3C4-F22191A6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195A7-BC0F-41F2-8102-2F850A1D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D5B97-255F-40C4-8455-0F9CC6AF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4D5EC-6489-4D05-A43A-7DFDDD3F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15AAA-2D36-4B1D-8A6C-966AA65C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E808A-7EF1-4DAE-8F9D-C582AB20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7837-AA1D-4D6E-BF0E-B759F9B6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A5EFE-2E53-4D2C-8639-406C2267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23929-15B8-4EEB-BC37-DF5F4391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3DD9F-77A2-4B61-AEC8-7B32153E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783A2-DE7D-40C9-B4F0-5DDAF7BC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9209E-094A-4A58-B511-81B5F967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7465C1-1952-4911-AEE3-7DF5A5A6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B52608-ED64-4990-BA3A-A7E6C9D7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BD7BFC-CDD4-406E-A631-01C93C5D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47D331-F9B2-40A4-B093-48BF8C66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52A41E-55AC-457A-AF9D-7EF97D30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773F-83F8-4E1C-91D0-916D7A4A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10F178-2EA6-448A-BC80-4FEB8D61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FA0BD5-29FD-451C-8319-853CC3E6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60A331-0F4B-4B39-BE37-F0962BAD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F68BAC-DE5A-423B-8FC7-FE254088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5242C9-5DB4-4207-B941-0263A752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6EFACC-C045-45CC-90D3-0184CF24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747C40-8244-48B4-8C9F-B3F7B60C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9D0E1C-A7DD-4EDA-934F-7E08270C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FDFB7D-6F14-46BF-B608-AB0EE12B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21C193-88B5-4970-AC3A-AECAEF8E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9A14-81BA-4BC4-8E02-6FFBF5CCD0CA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3A0A-A7AF-4C54-AF40-9D2EF1997E3C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CADA-E2D9-480F-B5F8-99C73520B030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9798-4E2E-4547-93F5-3CEA00C5DB14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E65E-32C9-4A12-B1C0-48CF74EDA3B7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C4DF-EF4F-4120-AB96-7C936A6C6D62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43AE-D50A-45FF-AA9E-D7F33EA6CCF9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E4B7-9A09-4E5D-BB9C-377F32A42D00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9278-BB76-4816-8450-33A4BECBDECC}" type="slidenum">
              <a:rPr b="0" lang="en-US" sz="1600" spc="-1" strike="noStrike">
                <a:solidFill>
                  <a:srgbClr val="d3dee1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youtube.com/watch?v=ISsLEU4Cld0" TargetMode="External"/><Relationship Id="rId3" Type="http://schemas.openxmlformats.org/officeDocument/2006/relationships/hyperlink" Target="http://www.youtube.com/watch?v=sEuhKRhrvRM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066-1485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system of ideals and social codes governing the behavior of knights and gentlewom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cluded taking an oath of loyalty to an overlord and observing certain rules of warfare, such as never attacking an unarmed opponen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nguage – Frenc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285840" y="249120"/>
            <a:ext cx="8705880" cy="11653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Primary duty of males above serf class was military service to their lords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Page – young boys (around age 7) were sent to the home of a lord to begin training.  They were trained in other homes to ensure the training was strict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aught to read, write, sing, dance, play the harp, play chess, and rules of good manners by the ladies and the clergyme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aught to ride, wrestle, joust, and use a sword by squire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quire – around age 14; personal servant to a knigh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elped the knight dress, served meals, made his bed, carried armor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ourtly love – the idea that adoring a lady would make a knight braver and nobler; in its ideal form, courtly love is nonsexua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A knight might wear his lady’s colors in battle, glorify her in words, be inspired by her, but she was always pure and remained out of reach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night – around age 21; huge ceremony; he held an all-night vigil in full armor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ccolade – 3 strokes with the flat side of a sword (“dubbed”); originally a hard blow meant to test the courage of the pers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Largess – gifts given to the knight from his patron knight and gifts from the new knight to his companions and inferior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itle of “Sir”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Duty of a knight – service to God, his lord, and his lad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20840" y="249120"/>
            <a:ext cx="8570880" cy="11653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de for refinement in a rough ag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ncouraged loyalty and courag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alted the position of wome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isadvantage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ook no account of the common peopl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ook some virtues to absurd length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oust – 2 knights ride at each other with lances; if either is unhorsed, they continue to fight on foot with swords (think of this as maybe a wrestling match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ourney proper – several knights on horseback with swords until one party was defeated or the herald stopped the contest (think of this as a football game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st – oval enclosure surrounded by two rows of seats (think of this as a stadium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avilion – located at each end of the list for the opposing knights (think of this as the locker room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eralds – presided over tournaments and enforced  rules (think of this as the referee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292ca"/>
                </a:solidFill>
                <a:uFillTx/>
                <a:latin typeface="Rockwell"/>
                <a:hlinkClick r:id="rId2"/>
              </a:rPr>
              <a:t>http://www.youtube.com/watch?v=ISsLEU4Cld0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292ca"/>
                </a:solidFill>
                <a:uFillTx/>
                <a:latin typeface="Rockwell"/>
                <a:hlinkClick r:id="rId3"/>
              </a:rPr>
              <a:t>http://www.youtube.com/watch?v=sEuhKRhrvR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rmor in the early Middle Ages consisted of a helmet, a shield, and a mail shir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s weapons became more deadly, the need for more protection of heavier armor led to compromised flexibility and mobility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Armor was held together by rivets, leather straps, hinges, turning pins, buckles, and peg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A heavily padded undergarment of leather and a mail shirt were worn under the armor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Plate arm, leg, and foot pieces were also worn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Some suits weighed 120 pounds and had 200 custom-fitted iron plate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The knight also carried a dagger, a lance, a sword, a battle-ax, and a club-headed mace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ctober 1066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ay-long battle near Hastings, Englan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lliam, Duke of Normandy, defeated King Harold of England, the last Saxon k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eginning of the Norman Conques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609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addition to the threat of battle, the armor itself could be fatal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nights could die from suffocation, heart failure, heat stroke, even drowning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nights were unable to dress themselv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attles were scheduled to give the knights time to dress.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rvants stood nearby in order to help knights who had been unhorse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milar to today’s un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nguage -- Englis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erchant Guild – organized to include all those who sold goods in the tow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in purpose – monopolize the trade of its particular cit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rafts Guild – organization of artisans of various trad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in purpose – securing competent workmen and honest product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evels of Craftsmen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pprentice – lived with a master craftsman for 7 years; received no pay, but he was instructed in the art by the master craftsman; supplied with all his necessities; morals guarde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Journeyman – if apprentice lacked money to become a master, he could continue to live and work with the master; did receive pa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ll land except that which was farmed for the lord was treated as one big far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termined to a large extent the life of the peasantr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nguage – Englis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church concerned itself with almost every act of every man, regardless of rank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nguage – Lati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illegitimate son of the previous duke of Normand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usin to Edward the Confessor (the king before Harold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dward died childless early in 1066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arold of Wessex was crowned the following day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lliam claimed that the King Edward had promised him the thron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lliam gathered a huge army and sailed across the English Channel to seize what he felt was rightfully hi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lliam did not want to conquer the Anglo-Saxons; he just wanted to rule them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ecause of that, we have a culture and a language that is a combination of Norman and Anglo-Saxon element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Anglo-Saxons provided more democratic and artistic element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Normans provided administrative ability, emphasis on law and order, and cultural unity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ne of William’s greatest feats was the Doomsday Book – an inventory of nearly every piece of property in England—land, cattle, and building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r the first time, people in Europe were taxed on what they owne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survey helped to solidify the feudal system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eudalism is a social hierarchy that was recognized for centuri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t was a social system, a caste system, a property system, and a military system.  (A caste system is a system based on birth or wealth.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ased on a religious concept of rank with God as the supreme overlor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Content Placeholder 3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7892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y requiring that nobles swear loyalty to him, William was establishing the principle of centralized government in Englan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feudal system did not always work.  Occasionally, a vassal might choose not to honor his obligations, and battles between iron-clad knights would break ou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6:02:53Z</dcterms:created>
  <dc:creator>pcoles</dc:creator>
  <dc:description/>
  <dc:language>en-US</dc:language>
  <cp:lastModifiedBy> </cp:lastModifiedBy>
  <dcterms:modified xsi:type="dcterms:W3CDTF">2010-09-01T20:05:11Z</dcterms:modified>
  <cp:revision>15</cp:revision>
  <dc:subject/>
  <dc:title>The Middle Ages</dc:title>
</cp:coreProperties>
</file>